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breeze.wav" ContentType="audio/x-wav"/>
  <Override PartName="/ppt/media/greatjob.wav" ContentType="audio/x-wav"/>
  <Override PartName="/ppt/media/voltage.wav" ContentType="audio/x-wav"/>
  <Override PartName="/ppt/media/image3.wmf" ContentType="image/x-wmf"/>
  <Override PartName="/ppt/media/image4.png" ContentType="image/png"/>
  <Override PartName="/ppt/media/beep_.wav" ContentType="audio/x-wav"/>
  <Override PartName="/ppt/media/image6.png" ContentType="image/png"/>
  <Override PartName="/ppt/media/image5.png" ContentType="image/png"/>
  <Override PartName="/ppt/media/missed.wav" ContentType="audio/x-wav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063-C30A-4AA9-BA0D-C67C7F0C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FE1-9355-4FA1-A8D6-50FAC3F7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866-62FD-45DC-98C5-B8D88CCF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585-5ABD-4F90-A5D0-84D7665C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04A-B78B-4910-BCAC-227A58BE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C92-2619-4CE1-88C1-63B3BF44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AA4-1704-41D9-A659-8C6666C7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0DB-9611-42E3-A099-CF1A72B1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551-DF5E-477F-90C6-E99B2E4B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EA2-05C4-4E3D-8BB4-47A3905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D02-7C0E-4B15-A61A-79C575A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6DF-2FAD-44D9-9892-789D03F9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A2E9-5F33-4AAE-AE10-72D65E55B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" Target=""/><Relationship Id="rId10" Type="http://schemas.openxmlformats.org/officeDocument/2006/relationships/image" Target="../media/image7.png"/><Relationship Id="rId11" Type="http://schemas.openxmlformats.org/officeDocument/2006/relationships/slide" Target=""/><Relationship Id="rId12" Type="http://schemas.openxmlformats.org/officeDocument/2006/relationships/image" Target="../media/image7.png"/><Relationship Id="rId13" Type="http://schemas.openxmlformats.org/officeDocument/2006/relationships/slide" Target=""/><Relationship Id="rId14" Type="http://schemas.openxmlformats.org/officeDocument/2006/relationships/image" Target="../media/image7.png"/><Relationship Id="rId15" Type="http://schemas.openxmlformats.org/officeDocument/2006/relationships/image" Target="../media/image5.png"/><Relationship Id="rId16" Type="http://schemas.openxmlformats.org/officeDocument/2006/relationships/audio" Target="../media/greatjob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file:///tmp/home/.config/libreoffice/4/user/gallery/bomb.wav" TargetMode="External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audio" Target="../media/greatjob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audio" Target="../media/greatjob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8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audio" Target="../media/beep_.wav"/><Relationship Id="rId4" Type="http://schemas.openxmlformats.org/officeDocument/2006/relationships/audio" Target="../media/beep_.wav"/><Relationship Id="rId5" Type="http://schemas.openxmlformats.org/officeDocument/2006/relationships/audio" Target="../media/beep_.wav"/><Relationship Id="rId6" Type="http://schemas.openxmlformats.org/officeDocument/2006/relationships/audio" Target="../media/beep_.wav"/><Relationship Id="rId7" Type="http://schemas.openxmlformats.org/officeDocument/2006/relationships/audio" Target="../media/beep_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audio" Target="../media/missed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"/><Relationship Id="rId8" Type="http://schemas.openxmlformats.org/officeDocument/2006/relationships/image" Target="../media/image7.png"/><Relationship Id="rId9" Type="http://schemas.openxmlformats.org/officeDocument/2006/relationships/slide" Target=""/><Relationship Id="rId10" Type="http://schemas.openxmlformats.org/officeDocument/2006/relationships/image" Target="../media/image7.png"/><Relationship Id="rId11" Type="http://schemas.openxmlformats.org/officeDocument/2006/relationships/hyperlink" Target="file:///tmp/home/.config/libreoffice/4/user/gallery/bomb.wav" TargetMode="External"/><Relationship Id="rId12" Type="http://schemas.openxmlformats.org/officeDocument/2006/relationships/image" Target="../media/image7.png"/><Relationship Id="rId13" Type="http://schemas.openxmlformats.org/officeDocument/2006/relationships/slide" Target=""/><Relationship Id="rId14" Type="http://schemas.openxmlformats.org/officeDocument/2006/relationships/image" Target="../media/image7.png"/><Relationship Id="rId15" Type="http://schemas.openxmlformats.org/officeDocument/2006/relationships/image" Target="../media/image5.png"/><Relationship Id="rId16" Type="http://schemas.openxmlformats.org/officeDocument/2006/relationships/audio" Target="../media/greatjob.wav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slide" Target=""/><Relationship Id="rId11" Type="http://schemas.openxmlformats.org/officeDocument/2006/relationships/image" Target="../media/image7.png"/><Relationship Id="rId12" Type="http://schemas.openxmlformats.org/officeDocument/2006/relationships/slide" Target="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5.png"/><Relationship Id="rId16" Type="http://schemas.openxmlformats.org/officeDocument/2006/relationships/audio" Target="../media/greatjob.wav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" Target=""/><Relationship Id="rId12" Type="http://schemas.openxmlformats.org/officeDocument/2006/relationships/image" Target="../media/image7.png"/><Relationship Id="rId13" Type="http://schemas.openxmlformats.org/officeDocument/2006/relationships/slide" Target=""/><Relationship Id="rId14" Type="http://schemas.openxmlformats.org/officeDocument/2006/relationships/image" Target="../media/image7.png"/><Relationship Id="rId15" Type="http://schemas.openxmlformats.org/officeDocument/2006/relationships/image" Target="../media/image5.png"/><Relationship Id="rId16" Type="http://schemas.openxmlformats.org/officeDocument/2006/relationships/audio" Target="../media/greatjob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 Decoder v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>
            <a:hlinkClick r:id="" action="ppaction://hlinkshowjump?jump=nextslide"/>
          </p:cNvPr>
          <p:cNvSpPr/>
          <p:nvPr/>
        </p:nvSpPr>
        <p:spPr>
          <a:xfrm>
            <a:off x="1219320" y="4800600"/>
            <a:ext cx="6933960" cy="1066680"/>
          </a:xfrm>
          <a:custGeom>
            <a:avLst/>
            <a:gdLst>
              <a:gd name="textAreaLeft" fmla="*/ 69120 w 6933960"/>
              <a:gd name="textAreaRight" fmla="*/ 6864840 w 6933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40371" h="21600">
                <a:moveTo>
                  <a:pt x="0" y="0"/>
                </a:moveTo>
                <a:lnTo>
                  <a:pt x="140371" y="0"/>
                </a:lnTo>
                <a:lnTo>
                  <a:pt x="140371" y="21600"/>
                </a:lnTo>
                <a:lnTo>
                  <a:pt x="0" y="21600"/>
                </a:lnTo>
                <a:close/>
              </a:path>
              <a:path fill="lightenLess" w="140371" h="21600">
                <a:moveTo>
                  <a:pt x="0" y="0"/>
                </a:moveTo>
                <a:lnTo>
                  <a:pt x="140371" y="0"/>
                </a:lnTo>
                <a:lnTo>
                  <a:pt x="138971" y="1400"/>
                </a:lnTo>
                <a:lnTo>
                  <a:pt x="1400" y="1400"/>
                </a:lnTo>
                <a:close/>
              </a:path>
              <a:path fill="darken" w="140371" h="21600">
                <a:moveTo>
                  <a:pt x="140371" y="0"/>
                </a:moveTo>
                <a:lnTo>
                  <a:pt x="140371" y="21600"/>
                </a:lnTo>
                <a:lnTo>
                  <a:pt x="138971" y="20200"/>
                </a:lnTo>
                <a:lnTo>
                  <a:pt x="138971" y="1400"/>
                </a:lnTo>
                <a:close/>
              </a:path>
              <a:path fill="darkenLess" w="140371" h="21600">
                <a:moveTo>
                  <a:pt x="140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71" y="20200"/>
                </a:lnTo>
                <a:close/>
              </a:path>
              <a:path fill="lighten" w="140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lick Here to Enter the Space Craft and Join a Mission in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20968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Group 128"/>
          <p:cNvGrpSpPr/>
          <p:nvPr/>
        </p:nvGrpSpPr>
        <p:grpSpPr>
          <a:xfrm>
            <a:off x="1295280" y="304920"/>
            <a:ext cx="1828800" cy="718920"/>
            <a:chOff x="1295280" y="304920"/>
            <a:chExt cx="1828800" cy="718920"/>
          </a:xfrm>
        </p:grpSpPr>
        <p:pic>
          <p:nvPicPr>
            <p:cNvPr id="694" name="Picture 8" descr="TN00018A"/>
            <p:cNvPicPr/>
            <p:nvPr/>
          </p:nvPicPr>
          <p:blipFill>
            <a:blip r:embed="rId8"/>
            <a:stretch/>
          </p:blipFill>
          <p:spPr>
            <a:xfrm>
              <a:off x="1905120" y="304920"/>
              <a:ext cx="1218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WordArt 9"/>
            <p:cNvSpPr txBox="1"/>
            <p:nvPr/>
          </p:nvSpPr>
          <p:spPr>
            <a:xfrm>
              <a:off x="1295280" y="533520"/>
              <a:ext cx="55728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A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696" name="Rectangle 10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1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12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13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4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701" name="AutoShape 15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6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WordArt 18"/>
          <p:cNvSpPr txBox="1"/>
          <p:nvPr/>
        </p:nvSpPr>
        <p:spPr>
          <a:xfrm>
            <a:off x="1119240" y="182880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4" name="Picture 19" descr="TN00018A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52480" y="1600200"/>
            <a:ext cx="1219320" cy="719280"/>
          </a:xfrm>
          <a:prstGeom prst="rect">
            <a:avLst/>
          </a:prstGeom>
          <a:ln w="0">
            <a:noFill/>
          </a:ln>
        </p:spPr>
      </p:pic>
      <p:sp>
        <p:nvSpPr>
          <p:cNvPr id="705" name="WordArt 20"/>
          <p:cNvSpPr txBox="1"/>
          <p:nvPr/>
        </p:nvSpPr>
        <p:spPr>
          <a:xfrm>
            <a:off x="5791320" y="1752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6" name="Picture 21" descr="TN00018A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477120" y="1523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707" name="WordArt 22"/>
          <p:cNvSpPr txBox="1"/>
          <p:nvPr/>
        </p:nvSpPr>
        <p:spPr>
          <a:xfrm>
            <a:off x="5791320" y="609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8" name="Picture 23" descr="TN00018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477120" y="380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24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25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2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712" name="AutoShape 27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28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29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30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31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717" name="Rectangle 32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33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34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35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36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37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38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724" name="Rectangle 39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40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41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42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43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44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45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731" name="Rectangle 46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47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48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49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50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51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52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738" name="Rectangle 53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54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55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56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57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58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Rectangle 59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Group 60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746" name="Rectangle 61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62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63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64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750" name="Rectangle 65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66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67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68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754" name="Rectangle 69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0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71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7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758" name="Rectangle 73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74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75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76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762" name="Rectangle 77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78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79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80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766" name="Rectangle 81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82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83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84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770" name="Rectangle 85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86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87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88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774" name="Group 8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775" name="Rectangle 90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91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92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Oval 93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Oval 94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0" name="Group 95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781" name="Rectangle 96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97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98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99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785" name="Rectangle 100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101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Rectangle 102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103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789" name="Rectangle 104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105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Rectangle 106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Group 107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793" name="Rectangle 108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09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10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Line 111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12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113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14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15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116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17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118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804" name="Rectangle 119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20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21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Group 122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808" name="Rectangle 123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24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25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126"/>
          <p:cNvSpPr/>
          <p:nvPr/>
        </p:nvSpPr>
        <p:spPr>
          <a:xfrm>
            <a:off x="152280" y="3873600"/>
            <a:ext cx="8991720" cy="131076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(n) ______________________ is more specific than a kingdom, but less specific than a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phy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g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27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21" dur="5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28"/>
          <p:cNvGrpSpPr/>
          <p:nvPr/>
        </p:nvGrpSpPr>
        <p:grpSpPr>
          <a:xfrm>
            <a:off x="1295280" y="685800"/>
            <a:ext cx="2514600" cy="719280"/>
            <a:chOff x="1295280" y="685800"/>
            <a:chExt cx="2514600" cy="719280"/>
          </a:xfrm>
        </p:grpSpPr>
        <p:pic>
          <p:nvPicPr>
            <p:cNvPr id="820" name="Picture 9" descr="TN00018A"/>
            <p:cNvPicPr/>
            <p:nvPr/>
          </p:nvPicPr>
          <p:blipFill>
            <a:blip r:embed="rId8"/>
            <a:stretch/>
          </p:blipFill>
          <p:spPr>
            <a:xfrm>
              <a:off x="2590920" y="685800"/>
              <a:ext cx="12189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WordArt 10"/>
            <p:cNvSpPr txBox="1"/>
            <p:nvPr/>
          </p:nvSpPr>
          <p:spPr>
            <a:xfrm>
              <a:off x="1295280" y="838080"/>
              <a:ext cx="11430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True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822" name="Rectangle 11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2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3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4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15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827" name="AutoShape 16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17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WordArt 22"/>
          <p:cNvSpPr txBox="1"/>
          <p:nvPr/>
        </p:nvSpPr>
        <p:spPr>
          <a:xfrm>
            <a:off x="4648320" y="1752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ls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0" name="Picture 23" descr="TN00018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5880" y="1600200"/>
            <a:ext cx="1219320" cy="719280"/>
          </a:xfrm>
          <a:prstGeom prst="rect">
            <a:avLst/>
          </a:prstGeom>
          <a:ln w="0">
            <a:noFill/>
          </a:ln>
        </p:spPr>
      </p:pic>
      <p:sp>
        <p:nvSpPr>
          <p:cNvPr id="831" name="AutoShape 24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25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2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834" name="AutoShape 27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8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29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30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31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839" name="Rectangle 32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33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4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35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36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37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38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846" name="Rectangle 39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40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41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42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43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44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45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853" name="Rectangle 46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47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8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49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50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51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52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860" name="Rectangle 53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54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55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56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57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58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Rectangle 59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60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868" name="Rectangle 61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62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63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64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872" name="Rectangle 65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66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67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Group 68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876" name="Rectangle 69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70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71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7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880" name="Rectangle 73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74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75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76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884" name="Rectangle 77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78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79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Group 80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888" name="Rectangle 81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82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83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84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892" name="Rectangle 85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86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87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88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896" name="Group 8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897" name="Rectangle 90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91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92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Oval 93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Oval 94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Group 95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903" name="Rectangle 96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97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Rectangle 98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99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907" name="Rectangle 100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Rectangle 101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102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Group 103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911" name="Rectangle 104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105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Rectangle 106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Group 107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915" name="Rectangle 108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09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110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111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2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113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114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115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6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17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18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926" name="Rectangle 119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20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1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122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930" name="Rectangle 123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124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25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 Box 126"/>
          <p:cNvSpPr/>
          <p:nvPr/>
        </p:nvSpPr>
        <p:spPr>
          <a:xfrm>
            <a:off x="152280" y="3873600"/>
            <a:ext cx="8991720" cy="64260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naeus invented the system that  scientists use to name spec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27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81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81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27" dur="5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9" descr="TN00018A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90920" y="68580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942" name="WordArt 10"/>
          <p:cNvSpPr txBox="1"/>
          <p:nvPr/>
        </p:nvSpPr>
        <p:spPr>
          <a:xfrm>
            <a:off x="1295280" y="83808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ru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Rectangle 11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2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3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4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15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948" name="AutoShape 16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17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124"/>
          <p:cNvGrpSpPr/>
          <p:nvPr/>
        </p:nvGrpSpPr>
        <p:grpSpPr>
          <a:xfrm>
            <a:off x="4648320" y="1600200"/>
            <a:ext cx="2666880" cy="719280"/>
            <a:chOff x="4648320" y="1600200"/>
            <a:chExt cx="2666880" cy="719280"/>
          </a:xfrm>
        </p:grpSpPr>
        <p:sp>
          <p:nvSpPr>
            <p:cNvPr id="951" name="WordArt 18"/>
            <p:cNvSpPr txBox="1"/>
            <p:nvPr/>
          </p:nvSpPr>
          <p:spPr>
            <a:xfrm>
              <a:off x="4648320" y="175248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False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952" name="Picture 19" descr="TN00018A"/>
            <p:cNvPicPr/>
            <p:nvPr/>
          </p:nvPicPr>
          <p:blipFill>
            <a:blip r:embed="rId10"/>
            <a:stretch/>
          </p:blipFill>
          <p:spPr>
            <a:xfrm>
              <a:off x="6095880" y="1600200"/>
              <a:ext cx="121932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3" name="AutoShape 20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21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22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956" name="AutoShape 23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24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25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Rectangle 26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Group 27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961" name="Rectangle 28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29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30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31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32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33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34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968" name="Rectangle 35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36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37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38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39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40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Group 41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975" name="Rectangle 42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AutoShape 43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44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45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6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47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48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982" name="Rectangle 49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50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51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AutoShape 52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53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54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angle 55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Group 56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990" name="Rectangle 57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58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59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Group 60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994" name="Rectangle 61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62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63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64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998" name="Rectangle 65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66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67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Group 68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1002" name="Rectangle 69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70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71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72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1006" name="Rectangle 73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74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75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9" name="Group 76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1010" name="Rectangle 77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78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79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80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1014" name="Rectangle 81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82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83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84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1018" name="Group 85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1019" name="Rectangle 86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87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88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Oval 89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Oval 90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Group 91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1025" name="Rectangle 92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93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94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8" name="Group 95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1029" name="Rectangle 96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Rectangle 97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Rectangle 98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Group 99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1033" name="Rectangle 100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Rectangle 101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Rectangle 102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6" name="Group 103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1037" name="Rectangle 104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05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06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Line 107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108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109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110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111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112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13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114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1048" name="Rectangle 115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116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17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118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1052" name="Rectangle 119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120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121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Text Box 122"/>
          <p:cNvSpPr/>
          <p:nvPr/>
        </p:nvSpPr>
        <p:spPr>
          <a:xfrm>
            <a:off x="152280" y="3873600"/>
            <a:ext cx="8991720" cy="5806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is the most specific level in the classification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123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33" dur="5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4"/>
          <p:cNvSpPr/>
          <p:nvPr/>
        </p:nvSpPr>
        <p:spPr>
          <a:xfrm>
            <a:off x="0" y="571500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nk You Alliance Decoder, we could not have def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liens without your help. The alliance is indebted to you for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and skill.  Thanks once again for your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7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8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9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10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11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2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16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17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18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19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22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24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25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30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31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33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1295280" y="5257800"/>
            <a:ext cx="647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coming Tip from Central Intelligence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AutoShape 38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AutoShape 39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40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41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42" descr="bd05894_"/>
          <p:cNvPicPr/>
          <p:nvPr/>
        </p:nvPicPr>
        <p:blipFill>
          <a:blip r:embed="rId2"/>
          <a:stretch/>
        </p:blipFill>
        <p:spPr>
          <a:xfrm>
            <a:off x="2898720" y="63360"/>
            <a:ext cx="3349800" cy="38228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3" descr=""/>
          <p:cNvPicPr/>
          <p:nvPr/>
        </p:nvPicPr>
        <p:blipFill>
          <a:blip r:embed="rId3"/>
          <a:stretch/>
        </p:blipFill>
        <p:spPr>
          <a:xfrm>
            <a:off x="701028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0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1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1" dur="250" autoRev="1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5422" fill="hold"/>
                                        <p:tgtEl>
                                          <p:spTgt spid="10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Text Box 2"/>
          <p:cNvSpPr/>
          <p:nvPr/>
        </p:nvSpPr>
        <p:spPr>
          <a:xfrm>
            <a:off x="533520" y="457200"/>
            <a:ext cx="83818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or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ff Ertzberger -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ty of North Carolina Wilmingt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lipart and Sounds Copyright Microsoft PowerPoint and Microsoft Office Gallery Online 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presentation may not be sold, or redistributed without written permission, and may only be used for non-profit educational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sing and Distributing this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 are free to use this template in non-profit educational setting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 sure to check Jeff Ertzberger’s digital templates web site for even more template games and great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ttp://people.uncw.edu/ertzbergerj/msgame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6"/>
          <p:cNvSpPr/>
          <p:nvPr/>
        </p:nvSpPr>
        <p:spPr>
          <a:xfrm>
            <a:off x="0" y="571500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n Board Compu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 Flying Speed: 23.4 Ta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8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0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1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2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3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4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5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6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3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4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5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6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1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2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4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7"/>
          <p:cNvSpPr/>
          <p:nvPr/>
        </p:nvSpPr>
        <p:spPr>
          <a:xfrm>
            <a:off x="1295280" y="5257800"/>
            <a:ext cx="647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rip Navigation Status: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8">
            <a:hlinkClick r:id="" action="ppaction://hlinkshowjump?jump=previousslide"/>
          </p:cNvPr>
          <p:cNvSpPr/>
          <p:nvPr/>
        </p:nvSpPr>
        <p:spPr>
          <a:xfrm rot="10800000">
            <a:off x="14040" y="522936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9">
            <a:hlinkClick r:id="" action="ppaction://hlinkshowjump?jump=nextslide"/>
          </p:cNvPr>
          <p:cNvSpPr/>
          <p:nvPr/>
        </p:nvSpPr>
        <p:spPr>
          <a:xfrm>
            <a:off x="7862760" y="52578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4"/>
          <p:cNvSpPr/>
          <p:nvPr/>
        </p:nvSpPr>
        <p:spPr>
          <a:xfrm>
            <a:off x="380880" y="152280"/>
            <a:ext cx="8382240" cy="3733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  <p:sndAc>
      <p:stSnd>
        <p:snd r:embed="rId3" name="breeze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1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0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10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0" y="571500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n Board Comput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ly Calculating Incoming Messag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COMING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ROM HIGH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8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9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1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2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3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4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1295280" y="5257800"/>
            <a:ext cx="647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coming Message from Central Intelligence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6">
            <a:hlinkClick r:id="" action="ppaction://hlinkshowjump?jump=previousslide"/>
          </p:cNvPr>
          <p:cNvSpPr/>
          <p:nvPr/>
        </p:nvSpPr>
        <p:spPr>
          <a:xfrm rot="10800000">
            <a:off x="14040" y="522936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7">
            <a:hlinkClick r:id="" action="ppaction://hlinkshowjump?jump=nextslide"/>
          </p:cNvPr>
          <p:cNvSpPr/>
          <p:nvPr/>
        </p:nvSpPr>
        <p:spPr>
          <a:xfrm>
            <a:off x="7862760" y="52578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8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9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1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0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eep_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0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571500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Board Compu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ly Calculating Incoming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COMING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ROM HIGH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3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5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6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1295280" y="5257800"/>
            <a:ext cx="6477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coming Tip from Central Intelligence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6">
            <a:hlinkClick r:id="" action="ppaction://hlinkshowjump?jump=previousslide"/>
          </p:cNvPr>
          <p:cNvSpPr/>
          <p:nvPr/>
        </p:nvSpPr>
        <p:spPr>
          <a:xfrm rot="10800000">
            <a:off x="14040" y="522936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ck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7">
            <a:hlinkClick r:id="" action="ppaction://hlinkshowjump?jump=nextslide"/>
          </p:cNvPr>
          <p:cNvSpPr/>
          <p:nvPr/>
        </p:nvSpPr>
        <p:spPr>
          <a:xfrm>
            <a:off x="7862760" y="5257800"/>
            <a:ext cx="1204920" cy="38088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8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9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1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3" descr="bd05894_"/>
          <p:cNvPicPr/>
          <p:nvPr/>
        </p:nvPicPr>
        <p:blipFill>
          <a:blip r:embed="rId2"/>
          <a:stretch/>
        </p:blipFill>
        <p:spPr>
          <a:xfrm>
            <a:off x="2898720" y="63360"/>
            <a:ext cx="3349800" cy="38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-57240" y="5148360"/>
            <a:ext cx="9296640" cy="1752480"/>
          </a:xfrm>
          <a:prstGeom prst="rect">
            <a:avLst/>
          </a:prstGeom>
          <a:solidFill>
            <a:srgbClr val="4d4d4d"/>
          </a:solid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0" y="0"/>
            <a:ext cx="9144000" cy="4038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-47520" y="41148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4400" y="41004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895480" y="4114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3124080" y="42670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COMING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ROM HIGH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685800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6248520" y="41911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24852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6858000" y="4648320"/>
            <a:ext cx="380880" cy="380880"/>
          </a:xfrm>
          <a:prstGeom prst="octagon">
            <a:avLst>
              <a:gd name="adj" fmla="val 2928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 flipH="1" flipV="1">
            <a:off x="6400800" y="48002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6400800" y="43430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 flipH="1">
            <a:off x="7010280" y="4267080"/>
            <a:ext cx="763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H="1" flipV="1">
            <a:off x="6933960" y="480024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22860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18288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371600" y="4267080"/>
            <a:ext cx="380880" cy="228600"/>
          </a:xfrm>
          <a:prstGeom prst="hexagon">
            <a:avLst>
              <a:gd name="adj" fmla="val 41654"/>
              <a:gd name="vf" fmla="val 1154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4763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193356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2409840" y="4495680"/>
            <a:ext cx="152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 flipV="1">
            <a:off x="15238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 flipH="1" flipV="1">
            <a:off x="19810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 flipV="1">
            <a:off x="2438280" y="4343040"/>
            <a:ext cx="763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7620120" y="4267080"/>
            <a:ext cx="6094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8015400" y="429588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7710480" y="429588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8"/>
          <p:cNvSpPr/>
          <p:nvPr/>
        </p:nvSpPr>
        <p:spPr>
          <a:xfrm>
            <a:off x="152280" y="4191120"/>
            <a:ext cx="990720" cy="83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9"/>
          <p:cNvSpPr/>
          <p:nvPr/>
        </p:nvSpPr>
        <p:spPr>
          <a:xfrm>
            <a:off x="304920" y="4343400"/>
            <a:ext cx="609480" cy="228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700200" y="437184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395280" y="437184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2"/>
          <p:cNvSpPr/>
          <p:nvPr/>
        </p:nvSpPr>
        <p:spPr>
          <a:xfrm>
            <a:off x="700200" y="4676760"/>
            <a:ext cx="15228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395280" y="4676760"/>
            <a:ext cx="152280" cy="152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2514600" y="5302080"/>
            <a:ext cx="4419720" cy="337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When Ready – Click Next to 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6">
            <a:hlinkClick r:id="rId2" action="ppaction://hlinksldjump"/>
          </p:cNvPr>
          <p:cNvSpPr/>
          <p:nvPr/>
        </p:nvSpPr>
        <p:spPr>
          <a:xfrm>
            <a:off x="7086600" y="5257800"/>
            <a:ext cx="1828800" cy="4572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7"/>
          <p:cNvSpPr/>
          <p:nvPr/>
        </p:nvSpPr>
        <p:spPr>
          <a:xfrm>
            <a:off x="76960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8"/>
          <p:cNvSpPr/>
          <p:nvPr/>
        </p:nvSpPr>
        <p:spPr>
          <a:xfrm>
            <a:off x="800100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9"/>
          <p:cNvSpPr/>
          <p:nvPr/>
        </p:nvSpPr>
        <p:spPr>
          <a:xfrm>
            <a:off x="8610480" y="4724280"/>
            <a:ext cx="228600" cy="228600"/>
          </a:xfrm>
          <a:prstGeom prst="cube">
            <a:avLst>
              <a:gd name="adj" fmla="val 25000"/>
            </a:avLst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8610480" y="4267080"/>
            <a:ext cx="228600" cy="228600"/>
          </a:xfrm>
          <a:prstGeom prst="cube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4"/>
          <p:cNvSpPr/>
          <p:nvPr/>
        </p:nvSpPr>
        <p:spPr>
          <a:xfrm>
            <a:off x="304920" y="304920"/>
            <a:ext cx="8686800" cy="33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lcome Alliance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so grateful that you have agreed to help 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you have heard, aliens have stolen our space ship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are attempting to escape i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have not been able to stop them because we can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m from the ships controlled by our fo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know that you can help us identify the ships, and allow us to recaptur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your display panel, you will see clues from our central intelligence ag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 us identify the ships by clicking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know with you on the job we will be s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nk you, and good l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5"/>
          <p:cNvSpPr/>
          <p:nvPr/>
        </p:nvSpPr>
        <p:spPr>
          <a:xfrm>
            <a:off x="533520" y="5959440"/>
            <a:ext cx="8458200" cy="64260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ange Scanners Indicate - Aircraft Appr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Switching to Targeting Controls - Engaging Enem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5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6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7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218" name="AutoShape 18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9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AutoShape 23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4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5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223" name="AutoShape 26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7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8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29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0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228" name="Rectangle 31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32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33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5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6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7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235" name="Rectangle 38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9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40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41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42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3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44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242" name="Rectangle 45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46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7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8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49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50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51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249" name="Rectangle 52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53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54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5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6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7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58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71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257" name="Rectangle 72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73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74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75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261" name="Rectangle 76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7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78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79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265" name="Rectangle 80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81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2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83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269" name="Rectangle 84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85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86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87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273" name="Group 88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274" name="Rectangle 89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90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91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92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93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94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280" name="Rectangle 95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96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97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8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284" name="Rectangle 99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00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01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102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288" name="Rectangle 103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04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105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Line 110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1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12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3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4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5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6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117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299" name="Rectangle 118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9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0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21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303" name="Rectangle 122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23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24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25"/>
          <p:cNvSpPr/>
          <p:nvPr/>
        </p:nvSpPr>
        <p:spPr>
          <a:xfrm>
            <a:off x="152280" y="3873600"/>
            <a:ext cx="8991720" cy="173988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KNOW YOU CAN DO IT, PLEASE CONCENTRATE AND TRY IT AGAI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SENDING YOU BACK 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HE TRY AGAIN BUTTON TO CONTI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26"/>
          <p:cNvSpPr txBox="1"/>
          <p:nvPr/>
        </p:nvSpPr>
        <p:spPr>
          <a:xfrm>
            <a:off x="2362320" y="685800"/>
            <a:ext cx="44672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anners Indicate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You Missed that One</a:t>
            </a:r>
            <a:endParaRPr b="0" lang="en-US" sz="40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Rectangle 127">
            <a:hlinkClick r:id="" action="ppaction://hlinkshowjump?jump=previousslide"/>
          </p:cNvPr>
          <p:cNvSpPr/>
          <p:nvPr/>
        </p:nvSpPr>
        <p:spPr>
          <a:xfrm>
            <a:off x="4648320" y="5943600"/>
            <a:ext cx="14475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9" name="missed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  <p:set>
                                      <p:cBhvr>
                                        <p:cTn id="97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TN00018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905120" y="304920"/>
            <a:ext cx="1218960" cy="718920"/>
          </a:xfrm>
          <a:prstGeom prst="rect">
            <a:avLst/>
          </a:prstGeom>
          <a:ln w="0">
            <a:noFill/>
          </a:ln>
        </p:spPr>
      </p:pic>
      <p:sp>
        <p:nvSpPr>
          <p:cNvPr id="316" name="WordArt 9"/>
          <p:cNvSpPr txBox="1"/>
          <p:nvPr/>
        </p:nvSpPr>
        <p:spPr>
          <a:xfrm>
            <a:off x="1295280" y="53352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5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6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49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322" name="AutoShape 18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2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WordArt 10"/>
          <p:cNvSpPr txBox="1"/>
          <p:nvPr/>
        </p:nvSpPr>
        <p:spPr>
          <a:xfrm>
            <a:off x="1119240" y="182880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5" name="Picture 48" descr="TN00018A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52480" y="1600200"/>
            <a:ext cx="1219320" cy="71928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174"/>
          <p:cNvGrpSpPr/>
          <p:nvPr/>
        </p:nvGrpSpPr>
        <p:grpSpPr>
          <a:xfrm>
            <a:off x="5791320" y="1523880"/>
            <a:ext cx="1904760" cy="719280"/>
            <a:chOff x="5791320" y="1523880"/>
            <a:chExt cx="1904760" cy="719280"/>
          </a:xfrm>
        </p:grpSpPr>
        <p:sp>
          <p:nvSpPr>
            <p:cNvPr id="327" name="WordArt 12"/>
            <p:cNvSpPr txBox="1"/>
            <p:nvPr/>
          </p:nvSpPr>
          <p:spPr>
            <a:xfrm>
              <a:off x="5791320" y="1752480"/>
              <a:ext cx="55692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D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328" name="Picture 49" descr="TN00018A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6477120" y="1523880"/>
              <a:ext cx="121896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WordArt 11"/>
          <p:cNvSpPr txBox="1"/>
          <p:nvPr/>
        </p:nvSpPr>
        <p:spPr>
          <a:xfrm>
            <a:off x="5791320" y="609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30" name="Picture 50" descr="TN00018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477120" y="380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52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53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15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334" name="AutoShape 54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5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56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Rectangle 106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86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339" name="Rectangle 57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85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9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60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61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62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07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346" name="Rectangle 63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4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5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66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7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8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87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353" name="Rectangle 69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82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71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72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73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74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05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360" name="Rectangle 75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77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8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1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9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0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104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09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368" name="Rectangle 88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89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90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10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372" name="Rectangle 92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93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94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11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376" name="Rectangle 95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96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97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1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380" name="Rectangle 98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99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00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13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384" name="Rectangle 101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02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3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22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388" name="Rectangle 123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24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25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26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392" name="Rectangle 127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28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29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70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396" name="Group 16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397" name="Rectangle 154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50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51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152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153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14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403" name="Rectangle 115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116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117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30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407" name="Rectangle 131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132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133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134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411" name="Rectangle 135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136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37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Group 138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415" name="Rectangle 139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40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41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Line 145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46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47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48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8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9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60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61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426" name="Rectangle 162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3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64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165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430" name="Rectangle 166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67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68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1"/>
          <p:cNvSpPr/>
          <p:nvPr/>
        </p:nvSpPr>
        <p:spPr>
          <a:xfrm>
            <a:off x="152280" y="3873600"/>
            <a:ext cx="8991720" cy="131076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group of species with similar tra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Binomial nomencl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g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71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03" dur="5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8" descr="TN00018A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905120" y="304920"/>
            <a:ext cx="1218960" cy="718920"/>
          </a:xfrm>
          <a:prstGeom prst="rect">
            <a:avLst/>
          </a:prstGeom>
          <a:ln w="0">
            <a:noFill/>
          </a:ln>
        </p:spPr>
      </p:pic>
      <p:sp>
        <p:nvSpPr>
          <p:cNvPr id="442" name="WordArt 9"/>
          <p:cNvSpPr txBox="1"/>
          <p:nvPr/>
        </p:nvSpPr>
        <p:spPr>
          <a:xfrm>
            <a:off x="1295280" y="53352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1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2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3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4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448" name="AutoShape 15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WordArt 17"/>
          <p:cNvSpPr txBox="1"/>
          <p:nvPr/>
        </p:nvSpPr>
        <p:spPr>
          <a:xfrm>
            <a:off x="1119240" y="182880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1" name="Picture 18" descr="TN00018A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52480" y="1600200"/>
            <a:ext cx="1219320" cy="719280"/>
          </a:xfrm>
          <a:prstGeom prst="rect">
            <a:avLst/>
          </a:prstGeom>
          <a:ln w="0">
            <a:noFill/>
          </a:ln>
        </p:spPr>
      </p:pic>
      <p:sp>
        <p:nvSpPr>
          <p:cNvPr id="452" name="WordArt 20"/>
          <p:cNvSpPr txBox="1"/>
          <p:nvPr/>
        </p:nvSpPr>
        <p:spPr>
          <a:xfrm>
            <a:off x="5791320" y="1752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3" name="Picture 21" descr="TN00018A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77120" y="1523880"/>
            <a:ext cx="121896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30"/>
          <p:cNvGrpSpPr/>
          <p:nvPr/>
        </p:nvGrpSpPr>
        <p:grpSpPr>
          <a:xfrm>
            <a:off x="5791320" y="380880"/>
            <a:ext cx="1904760" cy="719280"/>
            <a:chOff x="5791320" y="380880"/>
            <a:chExt cx="1904760" cy="719280"/>
          </a:xfrm>
        </p:grpSpPr>
        <p:sp>
          <p:nvSpPr>
            <p:cNvPr id="455" name="WordArt 22"/>
            <p:cNvSpPr txBox="1"/>
            <p:nvPr/>
          </p:nvSpPr>
          <p:spPr>
            <a:xfrm>
              <a:off x="5791320" y="609480"/>
              <a:ext cx="55692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C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456" name="Picture 23" descr="TN00018A"/>
            <p:cNvPicPr/>
            <p:nvPr/>
          </p:nvPicPr>
          <p:blipFill>
            <a:blip r:embed="rId14"/>
            <a:stretch/>
          </p:blipFill>
          <p:spPr>
            <a:xfrm>
              <a:off x="6477120" y="380880"/>
              <a:ext cx="121896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AutoShape 24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25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2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460" name="AutoShape 27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28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9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30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1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465" name="Rectangle 32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33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4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5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36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37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Group 38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472" name="Rectangle 39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40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41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42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43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4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Group 45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479" name="Rectangle 46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47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48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49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50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51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52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486" name="Rectangle 53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54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55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56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57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58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Rectangle 59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60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494" name="Rectangle 61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62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63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64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498" name="Rectangle 65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66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67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68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502" name="Rectangle 69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70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71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7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506" name="Rectangle 73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74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5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76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510" name="Rectangle 77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78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79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80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514" name="Rectangle 81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82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3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84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518" name="Rectangle 85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86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87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88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522" name="Group 8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523" name="Rectangle 90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91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92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Oval 93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94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95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529" name="Rectangle 96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97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98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99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533" name="Rectangle 100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01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02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03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537" name="Rectangle 104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05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06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107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541" name="Rectangle 108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09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10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111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12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13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14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15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16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17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118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552" name="Rectangle 119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20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21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122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556" name="Rectangle 123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24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25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Text Box 126"/>
          <p:cNvSpPr/>
          <p:nvPr/>
        </p:nvSpPr>
        <p:spPr>
          <a:xfrm>
            <a:off x="152280" y="3873600"/>
            <a:ext cx="8991720" cy="131076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a system for naming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Linnae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Binomial nomencl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27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09" dur="5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990720" y="0"/>
            <a:ext cx="723888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990720" y="2514600"/>
            <a:ext cx="7238880" cy="266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4"/>
          <p:cNvSpPr/>
          <p:nvPr/>
        </p:nvSpPr>
        <p:spPr>
          <a:xfrm rot="5400000">
            <a:off x="6781680" y="456840"/>
            <a:ext cx="2819520" cy="1905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5"/>
          <p:cNvSpPr/>
          <p:nvPr/>
        </p:nvSpPr>
        <p:spPr>
          <a:xfrm rot="16200000">
            <a:off x="-419040" y="393480"/>
            <a:ext cx="2819520" cy="198108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3733920"/>
            <a:ext cx="9296280" cy="3124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7"/>
          <p:cNvSpPr/>
          <p:nvPr/>
        </p:nvSpPr>
        <p:spPr>
          <a:xfrm>
            <a:off x="457200" y="228600"/>
            <a:ext cx="8305920" cy="236232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8" descr="TN00018A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905120" y="304920"/>
            <a:ext cx="1218960" cy="718920"/>
          </a:xfrm>
          <a:prstGeom prst="rect">
            <a:avLst/>
          </a:prstGeom>
          <a:ln w="0">
            <a:noFill/>
          </a:ln>
        </p:spPr>
      </p:pic>
      <p:sp>
        <p:nvSpPr>
          <p:cNvPr id="568" name="WordArt 9"/>
          <p:cNvSpPr txBox="1"/>
          <p:nvPr/>
        </p:nvSpPr>
        <p:spPr>
          <a:xfrm>
            <a:off x="1295280" y="533520"/>
            <a:ext cx="5572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-47520" y="2743200"/>
            <a:ext cx="9296280" cy="99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1"/>
          <p:cNvSpPr/>
          <p:nvPr/>
        </p:nvSpPr>
        <p:spPr>
          <a:xfrm>
            <a:off x="14400" y="2728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2"/>
          <p:cNvSpPr/>
          <p:nvPr/>
        </p:nvSpPr>
        <p:spPr>
          <a:xfrm>
            <a:off x="76320" y="27432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3"/>
          <p:cNvSpPr/>
          <p:nvPr/>
        </p:nvSpPr>
        <p:spPr>
          <a:xfrm>
            <a:off x="30492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Status: Engag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Active Targeting: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Radar: 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ocation:W34.345 N24.2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4"/>
          <p:cNvGrpSpPr/>
          <p:nvPr/>
        </p:nvGrpSpPr>
        <p:grpSpPr>
          <a:xfrm>
            <a:off x="6172200" y="5943600"/>
            <a:ext cx="380880" cy="380880"/>
            <a:chOff x="6172200" y="5943600"/>
            <a:chExt cx="380880" cy="380880"/>
          </a:xfrm>
        </p:grpSpPr>
        <p:sp>
          <p:nvSpPr>
            <p:cNvPr id="574" name="AutoShape 15"/>
            <p:cNvSpPr/>
            <p:nvPr/>
          </p:nvSpPr>
          <p:spPr>
            <a:xfrm>
              <a:off x="6172200" y="5943600"/>
              <a:ext cx="380880" cy="380880"/>
            </a:xfrm>
            <a:prstGeom prst="octagon">
              <a:avLst>
                <a:gd name="adj" fmla="val 29287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6"/>
            <p:cNvSpPr/>
            <p:nvPr/>
          </p:nvSpPr>
          <p:spPr>
            <a:xfrm flipV="1">
              <a:off x="6324480" y="6095520"/>
              <a:ext cx="763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9"/>
          <p:cNvGrpSpPr/>
          <p:nvPr/>
        </p:nvGrpSpPr>
        <p:grpSpPr>
          <a:xfrm>
            <a:off x="1119240" y="1600200"/>
            <a:ext cx="1852560" cy="719280"/>
            <a:chOff x="1119240" y="1600200"/>
            <a:chExt cx="1852560" cy="719280"/>
          </a:xfrm>
        </p:grpSpPr>
        <p:sp>
          <p:nvSpPr>
            <p:cNvPr id="577" name="WordArt 17"/>
            <p:cNvSpPr txBox="1"/>
            <p:nvPr/>
          </p:nvSpPr>
          <p:spPr>
            <a:xfrm>
              <a:off x="1119240" y="1828800"/>
              <a:ext cx="557280" cy="46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B.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578" name="Picture 18" descr="TN00018A"/>
            <p:cNvPicPr/>
            <p:nvPr/>
          </p:nvPicPr>
          <p:blipFill>
            <a:blip r:embed="rId10"/>
            <a:stretch/>
          </p:blipFill>
          <p:spPr>
            <a:xfrm>
              <a:off x="1752480" y="1600200"/>
              <a:ext cx="1219320" cy="7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WordArt 19"/>
          <p:cNvSpPr txBox="1"/>
          <p:nvPr/>
        </p:nvSpPr>
        <p:spPr>
          <a:xfrm>
            <a:off x="5791320" y="1752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0" name="Picture 20" descr="TN00018A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6477120" y="1523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581" name="WordArt 22"/>
          <p:cNvSpPr txBox="1"/>
          <p:nvPr/>
        </p:nvSpPr>
        <p:spPr>
          <a:xfrm>
            <a:off x="5791320" y="609480"/>
            <a:ext cx="556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2" name="Picture 23" descr="TN00018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477120" y="380880"/>
            <a:ext cx="1218960" cy="719280"/>
          </a:xfrm>
          <a:prstGeom prst="rect">
            <a:avLst/>
          </a:prstGeom>
          <a:ln w="0">
            <a:noFill/>
          </a:ln>
        </p:spPr>
      </p:pic>
      <p:sp>
        <p:nvSpPr>
          <p:cNvPr id="583" name="AutoShape 24"/>
          <p:cNvSpPr/>
          <p:nvPr/>
        </p:nvSpPr>
        <p:spPr>
          <a:xfrm>
            <a:off x="3048120" y="2728800"/>
            <a:ext cx="2743200" cy="990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25"/>
          <p:cNvSpPr/>
          <p:nvPr/>
        </p:nvSpPr>
        <p:spPr>
          <a:xfrm>
            <a:off x="3276720" y="288144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ing Tip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Centr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telligence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26"/>
          <p:cNvGrpSpPr/>
          <p:nvPr/>
        </p:nvGrpSpPr>
        <p:grpSpPr>
          <a:xfrm>
            <a:off x="5943600" y="2881440"/>
            <a:ext cx="380880" cy="546120"/>
            <a:chOff x="5943600" y="2881440"/>
            <a:chExt cx="380880" cy="546120"/>
          </a:xfrm>
        </p:grpSpPr>
        <p:sp>
          <p:nvSpPr>
            <p:cNvPr id="586" name="AutoShape 27"/>
            <p:cNvSpPr/>
            <p:nvPr/>
          </p:nvSpPr>
          <p:spPr>
            <a:xfrm>
              <a:off x="5943600" y="2881440"/>
              <a:ext cx="380880" cy="228600"/>
            </a:xfrm>
            <a:prstGeom prst="hexagon">
              <a:avLst>
                <a:gd name="adj" fmla="val 41654"/>
                <a:gd name="vf" fmla="val 11547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28"/>
            <p:cNvSpPr/>
            <p:nvPr/>
          </p:nvSpPr>
          <p:spPr>
            <a:xfrm>
              <a:off x="6060960" y="3122640"/>
              <a:ext cx="152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9"/>
            <p:cNvSpPr/>
            <p:nvPr/>
          </p:nvSpPr>
          <p:spPr>
            <a:xfrm flipV="1">
              <a:off x="6095880" y="2957400"/>
              <a:ext cx="76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30"/>
          <p:cNvSpPr/>
          <p:nvPr/>
        </p:nvSpPr>
        <p:spPr>
          <a:xfrm>
            <a:off x="76320" y="5791320"/>
            <a:ext cx="9144000" cy="9903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1"/>
          <p:cNvGrpSpPr/>
          <p:nvPr/>
        </p:nvGrpSpPr>
        <p:grpSpPr>
          <a:xfrm>
            <a:off x="190440" y="5854680"/>
            <a:ext cx="990720" cy="838080"/>
            <a:chOff x="190440" y="5854680"/>
            <a:chExt cx="990720" cy="838080"/>
          </a:xfrm>
        </p:grpSpPr>
        <p:sp>
          <p:nvSpPr>
            <p:cNvPr id="591" name="Rectangle 32"/>
            <p:cNvSpPr/>
            <p:nvPr/>
          </p:nvSpPr>
          <p:spPr>
            <a:xfrm>
              <a:off x="19044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33"/>
            <p:cNvSpPr/>
            <p:nvPr/>
          </p:nvSpPr>
          <p:spPr>
            <a:xfrm>
              <a:off x="343080" y="5981400"/>
              <a:ext cx="685800" cy="2408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34"/>
            <p:cNvSpPr/>
            <p:nvPr/>
          </p:nvSpPr>
          <p:spPr>
            <a:xfrm>
              <a:off x="444600" y="6019560"/>
              <a:ext cx="152280" cy="151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35"/>
            <p:cNvSpPr/>
            <p:nvPr/>
          </p:nvSpPr>
          <p:spPr>
            <a:xfrm>
              <a:off x="723960" y="6019560"/>
              <a:ext cx="152280" cy="151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36"/>
            <p:cNvSpPr/>
            <p:nvPr/>
          </p:nvSpPr>
          <p:spPr>
            <a:xfrm>
              <a:off x="738360" y="6340320"/>
              <a:ext cx="152280" cy="1519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37"/>
            <p:cNvSpPr/>
            <p:nvPr/>
          </p:nvSpPr>
          <p:spPr>
            <a:xfrm>
              <a:off x="433440" y="6340320"/>
              <a:ext cx="152280" cy="151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38"/>
          <p:cNvGrpSpPr/>
          <p:nvPr/>
        </p:nvGrpSpPr>
        <p:grpSpPr>
          <a:xfrm>
            <a:off x="1295280" y="5854680"/>
            <a:ext cx="990720" cy="838080"/>
            <a:chOff x="1295280" y="5854680"/>
            <a:chExt cx="990720" cy="838080"/>
          </a:xfrm>
        </p:grpSpPr>
        <p:sp>
          <p:nvSpPr>
            <p:cNvPr id="598" name="Rectangle 39"/>
            <p:cNvSpPr/>
            <p:nvPr/>
          </p:nvSpPr>
          <p:spPr>
            <a:xfrm>
              <a:off x="1295280" y="58546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40"/>
            <p:cNvSpPr/>
            <p:nvPr/>
          </p:nvSpPr>
          <p:spPr>
            <a:xfrm rot="16200000">
              <a:off x="1307880" y="6133680"/>
              <a:ext cx="609480" cy="228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41"/>
            <p:cNvSpPr/>
            <p:nvPr/>
          </p:nvSpPr>
          <p:spPr>
            <a:xfrm>
              <a:off x="1842840" y="603540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42"/>
            <p:cNvSpPr/>
            <p:nvPr/>
          </p:nvSpPr>
          <p:spPr>
            <a:xfrm>
              <a:off x="1538280" y="60354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43"/>
            <p:cNvSpPr/>
            <p:nvPr/>
          </p:nvSpPr>
          <p:spPr>
            <a:xfrm>
              <a:off x="1842840" y="6340320"/>
              <a:ext cx="15264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44"/>
            <p:cNvSpPr/>
            <p:nvPr/>
          </p:nvSpPr>
          <p:spPr>
            <a:xfrm>
              <a:off x="1538280" y="63403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5"/>
          <p:cNvGrpSpPr/>
          <p:nvPr/>
        </p:nvGrpSpPr>
        <p:grpSpPr>
          <a:xfrm>
            <a:off x="2362320" y="5867280"/>
            <a:ext cx="990360" cy="838440"/>
            <a:chOff x="2362320" y="5867280"/>
            <a:chExt cx="990360" cy="838440"/>
          </a:xfrm>
        </p:grpSpPr>
        <p:sp>
          <p:nvSpPr>
            <p:cNvPr id="605" name="Rectangle 46"/>
            <p:cNvSpPr/>
            <p:nvPr/>
          </p:nvSpPr>
          <p:spPr>
            <a:xfrm>
              <a:off x="2362320" y="5867280"/>
              <a:ext cx="990360" cy="838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47"/>
            <p:cNvSpPr/>
            <p:nvPr/>
          </p:nvSpPr>
          <p:spPr>
            <a:xfrm>
              <a:off x="2502000" y="62737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48"/>
            <p:cNvSpPr/>
            <p:nvPr/>
          </p:nvSpPr>
          <p:spPr>
            <a:xfrm>
              <a:off x="2895480" y="6019920"/>
              <a:ext cx="152640" cy="152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49"/>
            <p:cNvSpPr/>
            <p:nvPr/>
          </p:nvSpPr>
          <p:spPr>
            <a:xfrm>
              <a:off x="2590920" y="6019920"/>
              <a:ext cx="152280" cy="15228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0"/>
            <p:cNvSpPr/>
            <p:nvPr/>
          </p:nvSpPr>
          <p:spPr>
            <a:xfrm>
              <a:off x="2895480" y="6324480"/>
              <a:ext cx="152640" cy="152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1"/>
            <p:cNvSpPr/>
            <p:nvPr/>
          </p:nvSpPr>
          <p:spPr>
            <a:xfrm>
              <a:off x="2590920" y="6324480"/>
              <a:ext cx="152280" cy="15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52"/>
          <p:cNvGrpSpPr/>
          <p:nvPr/>
        </p:nvGrpSpPr>
        <p:grpSpPr>
          <a:xfrm>
            <a:off x="3429000" y="5867280"/>
            <a:ext cx="990720" cy="838080"/>
            <a:chOff x="3429000" y="5867280"/>
            <a:chExt cx="990720" cy="838080"/>
          </a:xfrm>
        </p:grpSpPr>
        <p:sp>
          <p:nvSpPr>
            <p:cNvPr id="612" name="Rectangle 53"/>
            <p:cNvSpPr/>
            <p:nvPr/>
          </p:nvSpPr>
          <p:spPr>
            <a:xfrm>
              <a:off x="3429000" y="5867280"/>
              <a:ext cx="990720" cy="838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4"/>
            <p:cNvSpPr/>
            <p:nvPr/>
          </p:nvSpPr>
          <p:spPr>
            <a:xfrm>
              <a:off x="3976920" y="60480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55"/>
            <p:cNvSpPr/>
            <p:nvPr/>
          </p:nvSpPr>
          <p:spPr>
            <a:xfrm>
              <a:off x="3672000" y="6048000"/>
              <a:ext cx="15228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56"/>
            <p:cNvSpPr/>
            <p:nvPr/>
          </p:nvSpPr>
          <p:spPr>
            <a:xfrm>
              <a:off x="3556080" y="6311520"/>
              <a:ext cx="685800" cy="24156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57"/>
            <p:cNvSpPr/>
            <p:nvPr/>
          </p:nvSpPr>
          <p:spPr>
            <a:xfrm>
              <a:off x="3976920" y="6352920"/>
              <a:ext cx="15228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58"/>
            <p:cNvSpPr/>
            <p:nvPr/>
          </p:nvSpPr>
          <p:spPr>
            <a:xfrm>
              <a:off x="3672000" y="6352920"/>
              <a:ext cx="152280" cy="152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59"/>
          <p:cNvSpPr/>
          <p:nvPr/>
        </p:nvSpPr>
        <p:spPr>
          <a:xfrm>
            <a:off x="4495680" y="5867280"/>
            <a:ext cx="464832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60"/>
          <p:cNvGrpSpPr/>
          <p:nvPr/>
        </p:nvGrpSpPr>
        <p:grpSpPr>
          <a:xfrm>
            <a:off x="4800600" y="5943600"/>
            <a:ext cx="609480" cy="228600"/>
            <a:chOff x="4800600" y="5943600"/>
            <a:chExt cx="609480" cy="228600"/>
          </a:xfrm>
        </p:grpSpPr>
        <p:sp>
          <p:nvSpPr>
            <p:cNvPr id="620" name="Rectangle 61"/>
            <p:cNvSpPr/>
            <p:nvPr/>
          </p:nvSpPr>
          <p:spPr>
            <a:xfrm>
              <a:off x="480060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62"/>
            <p:cNvSpPr/>
            <p:nvPr/>
          </p:nvSpPr>
          <p:spPr>
            <a:xfrm>
              <a:off x="5195520" y="5972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3"/>
            <p:cNvSpPr/>
            <p:nvPr/>
          </p:nvSpPr>
          <p:spPr>
            <a:xfrm>
              <a:off x="4890960" y="5972400"/>
              <a:ext cx="15192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64"/>
          <p:cNvGrpSpPr/>
          <p:nvPr/>
        </p:nvGrpSpPr>
        <p:grpSpPr>
          <a:xfrm>
            <a:off x="5410080" y="6324480"/>
            <a:ext cx="609480" cy="228600"/>
            <a:chOff x="5410080" y="6324480"/>
            <a:chExt cx="609480" cy="228600"/>
          </a:xfrm>
        </p:grpSpPr>
        <p:sp>
          <p:nvSpPr>
            <p:cNvPr id="624" name="Rectangle 65"/>
            <p:cNvSpPr/>
            <p:nvPr/>
          </p:nvSpPr>
          <p:spPr>
            <a:xfrm>
              <a:off x="54100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66"/>
            <p:cNvSpPr/>
            <p:nvPr/>
          </p:nvSpPr>
          <p:spPr>
            <a:xfrm>
              <a:off x="5805360" y="63532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67"/>
            <p:cNvSpPr/>
            <p:nvPr/>
          </p:nvSpPr>
          <p:spPr>
            <a:xfrm>
              <a:off x="550044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68"/>
          <p:cNvGrpSpPr/>
          <p:nvPr/>
        </p:nvGrpSpPr>
        <p:grpSpPr>
          <a:xfrm>
            <a:off x="5410080" y="5943600"/>
            <a:ext cx="609480" cy="228600"/>
            <a:chOff x="5410080" y="5943600"/>
            <a:chExt cx="609480" cy="228600"/>
          </a:xfrm>
        </p:grpSpPr>
        <p:sp>
          <p:nvSpPr>
            <p:cNvPr id="628" name="Rectangle 69"/>
            <p:cNvSpPr/>
            <p:nvPr/>
          </p:nvSpPr>
          <p:spPr>
            <a:xfrm>
              <a:off x="54100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70"/>
            <p:cNvSpPr/>
            <p:nvPr/>
          </p:nvSpPr>
          <p:spPr>
            <a:xfrm>
              <a:off x="5805360" y="597240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71"/>
            <p:cNvSpPr/>
            <p:nvPr/>
          </p:nvSpPr>
          <p:spPr>
            <a:xfrm>
              <a:off x="5500440" y="59724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2"/>
          <p:cNvGrpSpPr/>
          <p:nvPr/>
        </p:nvGrpSpPr>
        <p:grpSpPr>
          <a:xfrm>
            <a:off x="7848720" y="5943600"/>
            <a:ext cx="609480" cy="228600"/>
            <a:chOff x="7848720" y="5943600"/>
            <a:chExt cx="609480" cy="228600"/>
          </a:xfrm>
        </p:grpSpPr>
        <p:sp>
          <p:nvSpPr>
            <p:cNvPr id="632" name="Rectangle 73"/>
            <p:cNvSpPr/>
            <p:nvPr/>
          </p:nvSpPr>
          <p:spPr>
            <a:xfrm>
              <a:off x="784872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74"/>
            <p:cNvSpPr/>
            <p:nvPr/>
          </p:nvSpPr>
          <p:spPr>
            <a:xfrm>
              <a:off x="8244000" y="597204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75"/>
            <p:cNvSpPr/>
            <p:nvPr/>
          </p:nvSpPr>
          <p:spPr>
            <a:xfrm>
              <a:off x="7939080" y="597204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76"/>
          <p:cNvGrpSpPr/>
          <p:nvPr/>
        </p:nvGrpSpPr>
        <p:grpSpPr>
          <a:xfrm>
            <a:off x="7848720" y="6324480"/>
            <a:ext cx="609480" cy="228600"/>
            <a:chOff x="7848720" y="6324480"/>
            <a:chExt cx="609480" cy="228600"/>
          </a:xfrm>
        </p:grpSpPr>
        <p:sp>
          <p:nvSpPr>
            <p:cNvPr id="636" name="Rectangle 77"/>
            <p:cNvSpPr/>
            <p:nvPr/>
          </p:nvSpPr>
          <p:spPr>
            <a:xfrm>
              <a:off x="784872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78"/>
            <p:cNvSpPr/>
            <p:nvPr/>
          </p:nvSpPr>
          <p:spPr>
            <a:xfrm>
              <a:off x="824400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79"/>
            <p:cNvSpPr/>
            <p:nvPr/>
          </p:nvSpPr>
          <p:spPr>
            <a:xfrm>
              <a:off x="793908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80"/>
          <p:cNvGrpSpPr/>
          <p:nvPr/>
        </p:nvGrpSpPr>
        <p:grpSpPr>
          <a:xfrm>
            <a:off x="7238880" y="5943600"/>
            <a:ext cx="609480" cy="228600"/>
            <a:chOff x="7238880" y="5943600"/>
            <a:chExt cx="609480" cy="228600"/>
          </a:xfrm>
        </p:grpSpPr>
        <p:sp>
          <p:nvSpPr>
            <p:cNvPr id="640" name="Rectangle 81"/>
            <p:cNvSpPr/>
            <p:nvPr/>
          </p:nvSpPr>
          <p:spPr>
            <a:xfrm>
              <a:off x="7238880" y="594360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2"/>
            <p:cNvSpPr/>
            <p:nvPr/>
          </p:nvSpPr>
          <p:spPr>
            <a:xfrm>
              <a:off x="7634160" y="597204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83"/>
            <p:cNvSpPr/>
            <p:nvPr/>
          </p:nvSpPr>
          <p:spPr>
            <a:xfrm>
              <a:off x="7329240" y="597204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84"/>
          <p:cNvGrpSpPr/>
          <p:nvPr/>
        </p:nvGrpSpPr>
        <p:grpSpPr>
          <a:xfrm>
            <a:off x="7238880" y="6324480"/>
            <a:ext cx="609480" cy="228600"/>
            <a:chOff x="7238880" y="6324480"/>
            <a:chExt cx="609480" cy="228600"/>
          </a:xfrm>
        </p:grpSpPr>
        <p:sp>
          <p:nvSpPr>
            <p:cNvPr id="644" name="Rectangle 85"/>
            <p:cNvSpPr/>
            <p:nvPr/>
          </p:nvSpPr>
          <p:spPr>
            <a:xfrm>
              <a:off x="723888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6"/>
            <p:cNvSpPr/>
            <p:nvPr/>
          </p:nvSpPr>
          <p:spPr>
            <a:xfrm>
              <a:off x="7634160" y="635292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87"/>
            <p:cNvSpPr/>
            <p:nvPr/>
          </p:nvSpPr>
          <p:spPr>
            <a:xfrm>
              <a:off x="7329240" y="635292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88"/>
          <p:cNvGrpSpPr/>
          <p:nvPr/>
        </p:nvGrpSpPr>
        <p:grpSpPr>
          <a:xfrm>
            <a:off x="6781680" y="2819520"/>
            <a:ext cx="2286000" cy="838080"/>
            <a:chOff x="6781680" y="2819520"/>
            <a:chExt cx="2286000" cy="838080"/>
          </a:xfrm>
        </p:grpSpPr>
        <p:grpSp>
          <p:nvGrpSpPr>
            <p:cNvPr id="648" name="Group 89"/>
            <p:cNvGrpSpPr/>
            <p:nvPr/>
          </p:nvGrpSpPr>
          <p:grpSpPr>
            <a:xfrm>
              <a:off x="6781680" y="2819520"/>
              <a:ext cx="2286000" cy="838080"/>
              <a:chOff x="6781680" y="2819520"/>
              <a:chExt cx="2286000" cy="838080"/>
            </a:xfrm>
          </p:grpSpPr>
          <p:sp>
            <p:nvSpPr>
              <p:cNvPr id="649" name="Rectangle 90"/>
              <p:cNvSpPr/>
              <p:nvPr/>
            </p:nvSpPr>
            <p:spPr>
              <a:xfrm>
                <a:off x="6781680" y="2819520"/>
                <a:ext cx="2286000" cy="838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91"/>
              <p:cNvSpPr/>
              <p:nvPr/>
            </p:nvSpPr>
            <p:spPr>
              <a:xfrm>
                <a:off x="86486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92"/>
              <p:cNvSpPr/>
              <p:nvPr/>
            </p:nvSpPr>
            <p:spPr>
              <a:xfrm>
                <a:off x="8877240" y="290844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93"/>
              <p:cNvSpPr/>
              <p:nvPr/>
            </p:nvSpPr>
            <p:spPr>
              <a:xfrm>
                <a:off x="8572680" y="298440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94"/>
              <p:cNvSpPr/>
              <p:nvPr/>
            </p:nvSpPr>
            <p:spPr>
              <a:xfrm>
                <a:off x="8801280" y="313704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95"/>
            <p:cNvGrpSpPr/>
            <p:nvPr/>
          </p:nvGrpSpPr>
          <p:grpSpPr>
            <a:xfrm>
              <a:off x="6933960" y="2971800"/>
              <a:ext cx="609480" cy="228600"/>
              <a:chOff x="6933960" y="2971800"/>
              <a:chExt cx="609480" cy="228600"/>
            </a:xfrm>
          </p:grpSpPr>
          <p:sp>
            <p:nvSpPr>
              <p:cNvPr id="655" name="Rectangle 96"/>
              <p:cNvSpPr/>
              <p:nvPr/>
            </p:nvSpPr>
            <p:spPr>
              <a:xfrm>
                <a:off x="693396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97"/>
              <p:cNvSpPr/>
              <p:nvPr/>
            </p:nvSpPr>
            <p:spPr>
              <a:xfrm>
                <a:off x="7329240" y="300024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98"/>
              <p:cNvSpPr/>
              <p:nvPr/>
            </p:nvSpPr>
            <p:spPr>
              <a:xfrm>
                <a:off x="7024320" y="300024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Group 99"/>
            <p:cNvGrpSpPr/>
            <p:nvPr/>
          </p:nvGrpSpPr>
          <p:grpSpPr>
            <a:xfrm>
              <a:off x="7314840" y="3276720"/>
              <a:ext cx="609480" cy="228600"/>
              <a:chOff x="7314840" y="3276720"/>
              <a:chExt cx="609480" cy="228600"/>
            </a:xfrm>
          </p:grpSpPr>
          <p:sp>
            <p:nvSpPr>
              <p:cNvPr id="659" name="Rectangle 100"/>
              <p:cNvSpPr/>
              <p:nvPr/>
            </p:nvSpPr>
            <p:spPr>
              <a:xfrm>
                <a:off x="7314840" y="327672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01"/>
              <p:cNvSpPr/>
              <p:nvPr/>
            </p:nvSpPr>
            <p:spPr>
              <a:xfrm>
                <a:off x="7710120" y="3305160"/>
                <a:ext cx="152280" cy="15228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02"/>
              <p:cNvSpPr/>
              <p:nvPr/>
            </p:nvSpPr>
            <p:spPr>
              <a:xfrm>
                <a:off x="7405200" y="330516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Group 103"/>
            <p:cNvGrpSpPr/>
            <p:nvPr/>
          </p:nvGrpSpPr>
          <p:grpSpPr>
            <a:xfrm>
              <a:off x="7696080" y="2971800"/>
              <a:ext cx="609480" cy="228600"/>
              <a:chOff x="7696080" y="2971800"/>
              <a:chExt cx="609480" cy="228600"/>
            </a:xfrm>
          </p:grpSpPr>
          <p:sp>
            <p:nvSpPr>
              <p:cNvPr id="663" name="Rectangle 104"/>
              <p:cNvSpPr/>
              <p:nvPr/>
            </p:nvSpPr>
            <p:spPr>
              <a:xfrm>
                <a:off x="7696080" y="2971800"/>
                <a:ext cx="60948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05"/>
              <p:cNvSpPr/>
              <p:nvPr/>
            </p:nvSpPr>
            <p:spPr>
              <a:xfrm>
                <a:off x="8091360" y="3000600"/>
                <a:ext cx="152280" cy="152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106"/>
              <p:cNvSpPr/>
              <p:nvPr/>
            </p:nvSpPr>
            <p:spPr>
              <a:xfrm>
                <a:off x="7786440" y="30006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6" name="Group 107"/>
          <p:cNvGrpSpPr/>
          <p:nvPr/>
        </p:nvGrpSpPr>
        <p:grpSpPr>
          <a:xfrm>
            <a:off x="4800600" y="6324480"/>
            <a:ext cx="609480" cy="228600"/>
            <a:chOff x="4800600" y="6324480"/>
            <a:chExt cx="609480" cy="228600"/>
          </a:xfrm>
        </p:grpSpPr>
        <p:sp>
          <p:nvSpPr>
            <p:cNvPr id="667" name="Rectangle 108"/>
            <p:cNvSpPr/>
            <p:nvPr/>
          </p:nvSpPr>
          <p:spPr>
            <a:xfrm>
              <a:off x="4800600" y="63244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9"/>
            <p:cNvSpPr/>
            <p:nvPr/>
          </p:nvSpPr>
          <p:spPr>
            <a:xfrm>
              <a:off x="5195880" y="6353280"/>
              <a:ext cx="152280" cy="152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0"/>
            <p:cNvSpPr/>
            <p:nvPr/>
          </p:nvSpPr>
          <p:spPr>
            <a:xfrm>
              <a:off x="4890960" y="635328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Line 111"/>
          <p:cNvSpPr/>
          <p:nvPr/>
        </p:nvSpPr>
        <p:spPr>
          <a:xfrm>
            <a:off x="86868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12"/>
          <p:cNvSpPr/>
          <p:nvPr/>
        </p:nvSpPr>
        <p:spPr>
          <a:xfrm>
            <a:off x="8915400" y="59436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113"/>
          <p:cNvSpPr/>
          <p:nvPr/>
        </p:nvSpPr>
        <p:spPr>
          <a:xfrm>
            <a:off x="8610480" y="601992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114"/>
          <p:cNvSpPr/>
          <p:nvPr/>
        </p:nvSpPr>
        <p:spPr>
          <a:xfrm>
            <a:off x="8839080" y="6172200"/>
            <a:ext cx="15264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15"/>
          <p:cNvSpPr/>
          <p:nvPr/>
        </p:nvSpPr>
        <p:spPr>
          <a:xfrm>
            <a:off x="6324480" y="2895480"/>
            <a:ext cx="381240" cy="228600"/>
          </a:xfrm>
          <a:prstGeom prst="hexagon">
            <a:avLst>
              <a:gd name="adj" fmla="val 4169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6"/>
          <p:cNvSpPr/>
          <p:nvPr/>
        </p:nvSpPr>
        <p:spPr>
          <a:xfrm>
            <a:off x="6435720" y="3137040"/>
            <a:ext cx="152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17"/>
          <p:cNvSpPr/>
          <p:nvPr/>
        </p:nvSpPr>
        <p:spPr>
          <a:xfrm flipV="1">
            <a:off x="6477120" y="2971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118"/>
          <p:cNvGrpSpPr/>
          <p:nvPr/>
        </p:nvGrpSpPr>
        <p:grpSpPr>
          <a:xfrm>
            <a:off x="6248520" y="5943240"/>
            <a:ext cx="228600" cy="609480"/>
            <a:chOff x="6248520" y="5943240"/>
            <a:chExt cx="228600" cy="609480"/>
          </a:xfrm>
        </p:grpSpPr>
        <p:sp>
          <p:nvSpPr>
            <p:cNvPr id="678" name="Rectangle 119"/>
            <p:cNvSpPr/>
            <p:nvPr/>
          </p:nvSpPr>
          <p:spPr>
            <a:xfrm rot="16200000">
              <a:off x="6058080" y="613368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20"/>
            <p:cNvSpPr/>
            <p:nvPr/>
          </p:nvSpPr>
          <p:spPr>
            <a:xfrm rot="16200000">
              <a:off x="6276960" y="600480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21"/>
            <p:cNvSpPr/>
            <p:nvPr/>
          </p:nvSpPr>
          <p:spPr>
            <a:xfrm rot="16200000">
              <a:off x="6276960" y="6309720"/>
              <a:ext cx="152280" cy="152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122"/>
          <p:cNvGrpSpPr/>
          <p:nvPr/>
        </p:nvGrpSpPr>
        <p:grpSpPr>
          <a:xfrm>
            <a:off x="6705360" y="5943600"/>
            <a:ext cx="228600" cy="609480"/>
            <a:chOff x="6705360" y="5943600"/>
            <a:chExt cx="228600" cy="609480"/>
          </a:xfrm>
        </p:grpSpPr>
        <p:sp>
          <p:nvSpPr>
            <p:cNvPr id="682" name="Rectangle 123"/>
            <p:cNvSpPr/>
            <p:nvPr/>
          </p:nvSpPr>
          <p:spPr>
            <a:xfrm rot="5400000">
              <a:off x="6514920" y="6134040"/>
              <a:ext cx="60948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24"/>
            <p:cNvSpPr/>
            <p:nvPr/>
          </p:nvSpPr>
          <p:spPr>
            <a:xfrm rot="5400000">
              <a:off x="6753240" y="6338880"/>
              <a:ext cx="152280" cy="152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25"/>
            <p:cNvSpPr/>
            <p:nvPr/>
          </p:nvSpPr>
          <p:spPr>
            <a:xfrm rot="5400000">
              <a:off x="6753240" y="603396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Text Box 126"/>
          <p:cNvSpPr/>
          <p:nvPr/>
        </p:nvSpPr>
        <p:spPr>
          <a:xfrm>
            <a:off x="152280" y="3873600"/>
            <a:ext cx="8991720" cy="1554120"/>
          </a:xfrm>
          <a:prstGeom prst="rect">
            <a:avLst/>
          </a:pr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ichotomous key is a set of questions that helps scientists find the scientific name of a(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ge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phy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27">
            <a:hlinkClick r:id="" action="ppaction://hlinkshowjump?jump=nextslide"/>
          </p:cNvPr>
          <p:cNvSpPr/>
          <p:nvPr/>
        </p:nvSpPr>
        <p:spPr>
          <a:xfrm>
            <a:off x="9448920" y="380880"/>
            <a:ext cx="7086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Great Job!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You Found Our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Here to Keep Go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reatjob.wav"/>
                                        </p:tgtEl>
                                      </p:cMediaNode>
                                    </p:audio>
                                    <p:animMotion origin="layout" path="M -3.33333E-006 4.44444E-006 L -0.92083 -0.00556 E">
                                      <p:cBhvr>
                                        <p:cTn id="115" dur="5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0:23:03Z</dcterms:created>
  <dc:creator>GX270image</dc:creator>
  <dc:description/>
  <dc:language>en-US</dc:language>
  <cp:lastModifiedBy>ddwyer</cp:lastModifiedBy>
  <dcterms:modified xsi:type="dcterms:W3CDTF">2010-01-12T12:59:49Z</dcterms:modified>
  <cp:revision>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asVP">
    <vt:r8>1</vt:r8>
  </property>
</Properties>
</file>